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0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65BE-256E-4E3B-8486-4407DAF4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72DB-4C9D-4571-BA57-F90EA89A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1A9A-265C-4891-B466-FE39B7EB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2DAE-B02F-4997-AAD1-76CB72899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C558-A8B7-4FC9-B9F0-7220E1629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2965-2F03-4FB2-AD2F-512FD4A5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37F6-4F87-4471-BC32-0481692E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FBD1-4575-4990-86A9-A3892220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1879-3DDB-46F6-A05F-86C01F05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CA0E-60A2-4079-A350-5C85F7C8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256E-FF6E-40BD-8E6B-62A41200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FCF2-5818-41DF-B174-8AD3CC4D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612B-4DA2-4C7C-84E2-2B80A10E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FBB9-25B6-4C08-9512-22393B88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9F1E-DF84-49FD-BFDF-2693BFA9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7183-461E-4100-BD9F-44C6AAA3F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750C-9138-416D-BBB7-75DA9F5AE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5BB0-E8DD-41F8-9120-C1F1A04A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E087-9708-43C6-A8B4-6C57FF91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ECAC-2758-4F89-966D-179157AE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C110-661E-4FAD-8633-0D5E932B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7657-A9C1-45D1-AFA6-D561C1C8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40B4-5F70-432D-9F59-2D0B7229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9A0F-C304-45A3-8AD6-5D3B3069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09C7-9CC2-4277-934A-0640AA40AD5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50F8-EA3B-4A48-B8F1-3E2AF450205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TEST 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DE EVALUARE INI</a:t>
            </a:r>
            <a:r>
              <a:rPr b="0" lang="ro-RO" sz="5000" spc="-1" strike="noStrike">
                <a:solidFill>
                  <a:srgbClr val="006633"/>
                </a:solidFill>
                <a:latin typeface="Garamond"/>
              </a:rPr>
              <a:t>ŢIALĂ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6633"/>
                </a:solidFill>
                <a:latin typeface="Garamond"/>
              </a:rPr>
              <a:t>1. În secolul al XV-lea, portughezii au construit caravela, ambarcaţiune sigură şi rapidă, vasul marilor descoperiri.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Priveşte cu atenţie vasul din imagin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Alege dintre obiectele prezentate mai jos, pe cele potrivite şi transformă nava în caravel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corabie-fara-panze-2-400683"/>
          <p:cNvPicPr/>
          <p:nvPr/>
        </p:nvPicPr>
        <p:blipFill>
          <a:blip r:embed="rId1"/>
          <a:stretch/>
        </p:blipFill>
        <p:spPr>
          <a:xfrm>
            <a:off x="5219640" y="2276640"/>
            <a:ext cx="3311640" cy="23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6237360"/>
            <a:ext cx="8229600" cy="3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836640"/>
            <a:ext cx="7210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strolab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Busolă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atarg cu pânz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Vâsl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ncoră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Moto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Se acordă 2 punc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Astrolab"/>
          <p:cNvPicPr/>
          <p:nvPr/>
        </p:nvPicPr>
        <p:blipFill>
          <a:blip r:embed="rId1"/>
          <a:stretch/>
        </p:blipFill>
        <p:spPr>
          <a:xfrm>
            <a:off x="3132000" y="476280"/>
            <a:ext cx="754200" cy="936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busola"/>
          <p:cNvPicPr/>
          <p:nvPr/>
        </p:nvPicPr>
        <p:blipFill>
          <a:blip r:embed="rId2"/>
          <a:stretch/>
        </p:blipFill>
        <p:spPr>
          <a:xfrm>
            <a:off x="4788000" y="1268280"/>
            <a:ext cx="714240" cy="897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248572383-5637633-700_700"/>
          <p:cNvPicPr/>
          <p:nvPr/>
        </p:nvPicPr>
        <p:blipFill>
          <a:blip r:embed="rId3"/>
          <a:stretch/>
        </p:blipFill>
        <p:spPr>
          <a:xfrm>
            <a:off x="3203640" y="2349360"/>
            <a:ext cx="765000" cy="1008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vasle-de-aluminiu-deluxe-48--p135720"/>
          <p:cNvPicPr/>
          <p:nvPr/>
        </p:nvPicPr>
        <p:blipFill>
          <a:blip r:embed="rId4"/>
          <a:stretch/>
        </p:blipFill>
        <p:spPr>
          <a:xfrm>
            <a:off x="6516720" y="2852640"/>
            <a:ext cx="903240" cy="936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" descr="ancora"/>
          <p:cNvPicPr/>
          <p:nvPr/>
        </p:nvPicPr>
        <p:blipFill>
          <a:blip r:embed="rId5"/>
          <a:stretch/>
        </p:blipFill>
        <p:spPr>
          <a:xfrm>
            <a:off x="2771640" y="4076640"/>
            <a:ext cx="631800" cy="750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9" descr="motor"/>
          <p:cNvPicPr/>
          <p:nvPr/>
        </p:nvPicPr>
        <p:blipFill>
          <a:blip r:embed="rId6"/>
          <a:stretch/>
        </p:blipFill>
        <p:spPr>
          <a:xfrm>
            <a:off x="4643280" y="4941720"/>
            <a:ext cx="122904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006633"/>
                </a:solidFill>
                <a:latin typeface="Garamond"/>
              </a:rPr>
              <a:t>2. </a:t>
            </a:r>
            <a:r>
              <a:rPr b="0" lang="ro-RO" sz="3200" spc="-1" strike="noStrike">
                <a:solidFill>
                  <a:srgbClr val="006633"/>
                </a:solidFill>
                <a:latin typeface="Garamond"/>
              </a:rPr>
              <a:t>Alegeţi din succesiunea de imagini plantele, animalele şi păsările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use de europeni </a:t>
            </a:r>
            <a:r>
              <a:rPr b="1" lang="ro-RO" sz="26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 Lumea Nou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use de europeni </a:t>
            </a:r>
            <a:r>
              <a:rPr b="1" lang="ro-RO" sz="2600" spc="-1" strike="noStrike">
                <a:solidFill>
                  <a:srgbClr val="000000"/>
                </a:solidFill>
                <a:latin typeface="Arial"/>
              </a:rPr>
              <a:t>în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 Lumea Nou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Se acordă 3 punc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648320" y="1916280"/>
          <a:ext cx="4171680" cy="1188720"/>
        </p:xfrm>
        <a:graphic>
          <a:graphicData uri="http://schemas.openxmlformats.org/drawingml/2006/table">
            <a:tbl>
              <a:tblPr/>
              <a:tblGrid>
                <a:gridCol w="2085840"/>
                <a:gridCol w="2085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ăsări / Anim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643280" y="4076640"/>
          <a:ext cx="4176720" cy="884160"/>
        </p:xfrm>
        <a:graphic>
          <a:graphicData uri="http://schemas.openxmlformats.org/drawingml/2006/table">
            <a:tbl>
              <a:tblPr/>
              <a:tblGrid>
                <a:gridCol w="2121120"/>
                <a:gridCol w="2055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ăsări / Anim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4" name="Picture 4" descr="grau"/>
          <p:cNvPicPr/>
          <p:nvPr/>
        </p:nvPicPr>
        <p:blipFill>
          <a:blip r:embed="rId1"/>
          <a:stretch/>
        </p:blipFill>
        <p:spPr>
          <a:xfrm>
            <a:off x="1547640" y="1484280"/>
            <a:ext cx="1256040" cy="1255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porumb"/>
          <p:cNvPicPr/>
          <p:nvPr/>
        </p:nvPicPr>
        <p:blipFill>
          <a:blip r:embed="rId2"/>
          <a:stretch/>
        </p:blipFill>
        <p:spPr>
          <a:xfrm>
            <a:off x="6156360" y="1557360"/>
            <a:ext cx="1584360" cy="1182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cartof"/>
          <p:cNvPicPr/>
          <p:nvPr/>
        </p:nvPicPr>
        <p:blipFill>
          <a:blip r:embed="rId3"/>
          <a:stretch/>
        </p:blipFill>
        <p:spPr>
          <a:xfrm>
            <a:off x="900000" y="5013360"/>
            <a:ext cx="1247760" cy="1224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cafea"/>
          <p:cNvPicPr/>
          <p:nvPr/>
        </p:nvPicPr>
        <p:blipFill>
          <a:blip r:embed="rId4"/>
          <a:stretch/>
        </p:blipFill>
        <p:spPr>
          <a:xfrm>
            <a:off x="6516720" y="3286080"/>
            <a:ext cx="1623960" cy="1298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9" descr="JJTZCAU26I2JCA7RDM4OCA8T2IK3CA3I1K15CAEN7TQYCAPD4VUOCAYD0J0QCAICLTKCCAA9AMIRCAJFHY1LCAW4C718CA8DM3IOCARTS2TOCA54V249CAVBGV9LCA92ZCECCAD28WI4CANSC05YCAQ3UZKW"/>
          <p:cNvPicPr/>
          <p:nvPr/>
        </p:nvPicPr>
        <p:blipFill>
          <a:blip r:embed="rId5"/>
          <a:stretch/>
        </p:blipFill>
        <p:spPr>
          <a:xfrm>
            <a:off x="3635280" y="2205000"/>
            <a:ext cx="1657440" cy="1384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0" descr="poza3_m"/>
          <p:cNvPicPr/>
          <p:nvPr/>
        </p:nvPicPr>
        <p:blipFill>
          <a:blip r:embed="rId6"/>
          <a:stretch/>
        </p:blipFill>
        <p:spPr>
          <a:xfrm>
            <a:off x="3059280" y="4437000"/>
            <a:ext cx="1549080" cy="1513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1" descr="EDWNCA7Q519GCAPXV3J4CAH0BUOTCAO4BOUNCA2YLUY5CAKXWSXYCALL1M1GCA6H61STCAED4MD5CAYMYZJWCALJ7Y1ECAQYIUMKCAIQJMI0CAQS00RCCANZEL98CAA3X9DJCASL3DZDCAEFKDPXCAS1XOFP"/>
          <p:cNvPicPr/>
          <p:nvPr/>
        </p:nvPicPr>
        <p:blipFill>
          <a:blip r:embed="rId7"/>
          <a:stretch/>
        </p:blipFill>
        <p:spPr>
          <a:xfrm>
            <a:off x="5796000" y="4941720"/>
            <a:ext cx="1584360" cy="1224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3" descr="HUDDCA71VWHFCAJFIUDSCANS7AABCATBCTY5CALBAM0DCA4W2VU5CAQFK91MCAI6BWS8CA2S91URCAEBP484CAA6L961CA54EEHSCA0VD3CQCAN67GSFCA4EJCTICAQF3C1DCAO0MHLKCAH1ARISCANX3KCV"/>
          <p:cNvPicPr/>
          <p:nvPr/>
        </p:nvPicPr>
        <p:blipFill>
          <a:blip r:embed="rId8"/>
          <a:stretch/>
        </p:blipFill>
        <p:spPr>
          <a:xfrm>
            <a:off x="826920" y="2924280"/>
            <a:ext cx="16765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Picture 4" descr="cal"/>
          <p:cNvPicPr/>
          <p:nvPr/>
        </p:nvPicPr>
        <p:blipFill>
          <a:blip r:embed="rId1"/>
          <a:stretch/>
        </p:blipFill>
        <p:spPr>
          <a:xfrm>
            <a:off x="1187280" y="1413000"/>
            <a:ext cx="194184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magar"/>
          <p:cNvPicPr/>
          <p:nvPr/>
        </p:nvPicPr>
        <p:blipFill>
          <a:blip r:embed="rId2"/>
          <a:stretch/>
        </p:blipFill>
        <p:spPr>
          <a:xfrm>
            <a:off x="6156360" y="1341360"/>
            <a:ext cx="1523880" cy="1081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bivol"/>
          <p:cNvPicPr/>
          <p:nvPr/>
        </p:nvPicPr>
        <p:blipFill>
          <a:blip r:embed="rId3"/>
          <a:stretch/>
        </p:blipFill>
        <p:spPr>
          <a:xfrm>
            <a:off x="1187280" y="3357720"/>
            <a:ext cx="1551240" cy="1223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curcan"/>
          <p:cNvPicPr/>
          <p:nvPr/>
        </p:nvPicPr>
        <p:blipFill>
          <a:blip r:embed="rId4"/>
          <a:stretch/>
        </p:blipFill>
        <p:spPr>
          <a:xfrm>
            <a:off x="6084720" y="3357720"/>
            <a:ext cx="1571760" cy="1868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papagal"/>
          <p:cNvPicPr/>
          <p:nvPr/>
        </p:nvPicPr>
        <p:blipFill>
          <a:blip r:embed="rId5"/>
          <a:stretch/>
        </p:blipFill>
        <p:spPr>
          <a:xfrm>
            <a:off x="3924360" y="1484280"/>
            <a:ext cx="1247760" cy="1866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7" descr="JDC6CAXTVXC0CACNFLVNCAO3HTCQCATUSTTWCAQFMJAPCAKQOPHWCA1YGWNUCAJQFY39CAJPQV0ICANSAOCRCATQ4E8YCA7QK8MSCAU6I9B8CA3SGBSCCA2SVN59CAC9QMSOCAO1QBD9CAMIAKQJCAS3704E"/>
          <p:cNvPicPr/>
          <p:nvPr/>
        </p:nvPicPr>
        <p:blipFill>
          <a:blip r:embed="rId6"/>
          <a:stretch/>
        </p:blipFill>
        <p:spPr>
          <a:xfrm>
            <a:off x="3492360" y="4076640"/>
            <a:ext cx="194472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6633"/>
                </a:solidFill>
                <a:latin typeface="Garamond"/>
              </a:rPr>
              <a:t>3. </a:t>
            </a:r>
            <a:r>
              <a:rPr b="0" lang="ro-RO" sz="3200" spc="-1" strike="noStrike">
                <a:solidFill>
                  <a:srgbClr val="006633"/>
                </a:solidFill>
                <a:latin typeface="Garamond"/>
              </a:rPr>
              <a:t>Completaţi ciorchinele de mai jos cu noţiunile cunoscute despre marile descoperiri geografic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Se acordă 4 punc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1619280" y="2133720"/>
            <a:ext cx="4677840" cy="3670920"/>
            <a:chOff x="1619280" y="2133720"/>
            <a:chExt cx="4677840" cy="3670920"/>
          </a:xfrm>
        </p:grpSpPr>
        <p:sp>
          <p:nvSpPr>
            <p:cNvPr id="122" name="Line 5"/>
            <p:cNvSpPr/>
            <p:nvPr/>
          </p:nvSpPr>
          <p:spPr>
            <a:xfrm flipH="1" flipV="1">
              <a:off x="3791160" y="4754880"/>
              <a:ext cx="16560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6"/>
            <p:cNvSpPr/>
            <p:nvPr/>
          </p:nvSpPr>
          <p:spPr>
            <a:xfrm flipH="1" flipV="1">
              <a:off x="4045320" y="4637160"/>
              <a:ext cx="806760" cy="33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7"/>
            <p:cNvSpPr/>
            <p:nvPr/>
          </p:nvSpPr>
          <p:spPr>
            <a:xfrm flipH="1">
              <a:off x="3957120" y="3177360"/>
              <a:ext cx="1473840" cy="10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8"/>
            <p:cNvSpPr/>
            <p:nvPr/>
          </p:nvSpPr>
          <p:spPr>
            <a:xfrm flipH="1">
              <a:off x="3702960" y="2758320"/>
              <a:ext cx="861840" cy="134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9"/>
            <p:cNvSpPr/>
            <p:nvPr/>
          </p:nvSpPr>
          <p:spPr>
            <a:xfrm>
              <a:off x="1619280" y="2758320"/>
              <a:ext cx="865800" cy="83448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0"/>
            <p:cNvSpPr/>
            <p:nvPr/>
          </p:nvSpPr>
          <p:spPr>
            <a:xfrm>
              <a:off x="4392000" y="2342880"/>
              <a:ext cx="952560" cy="62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1"/>
            <p:cNvSpPr/>
            <p:nvPr/>
          </p:nvSpPr>
          <p:spPr>
            <a:xfrm>
              <a:off x="2571840" y="2345400"/>
              <a:ext cx="781200" cy="8344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2"/>
            <p:cNvSpPr/>
            <p:nvPr/>
          </p:nvSpPr>
          <p:spPr>
            <a:xfrm>
              <a:off x="5084640" y="3593160"/>
              <a:ext cx="865800" cy="8337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"/>
            <p:cNvSpPr/>
            <p:nvPr/>
          </p:nvSpPr>
          <p:spPr>
            <a:xfrm>
              <a:off x="3702960" y="4970880"/>
              <a:ext cx="1038960" cy="8337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4"/>
            <p:cNvSpPr/>
            <p:nvPr/>
          </p:nvSpPr>
          <p:spPr>
            <a:xfrm>
              <a:off x="2485080" y="4011480"/>
              <a:ext cx="1733400" cy="8319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200" spc="-1" strike="noStrike">
                  <a:solidFill>
                    <a:srgbClr val="000000"/>
                  </a:solidFill>
                  <a:latin typeface="Arial"/>
                </a:rPr>
                <a:t>MARILE DESCOPERIRI GEOGRAF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5"/>
            <p:cNvSpPr/>
            <p:nvPr/>
          </p:nvSpPr>
          <p:spPr>
            <a:xfrm flipH="1">
              <a:off x="4218480" y="4011480"/>
              <a:ext cx="865800" cy="41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 flipH="1" flipV="1">
              <a:off x="2398680" y="3382920"/>
              <a:ext cx="508320" cy="71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7"/>
            <p:cNvSpPr/>
            <p:nvPr/>
          </p:nvSpPr>
          <p:spPr>
            <a:xfrm flipV="1">
              <a:off x="3437640" y="2758320"/>
              <a:ext cx="346320" cy="125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8"/>
            <p:cNvSpPr/>
            <p:nvPr/>
          </p:nvSpPr>
          <p:spPr>
            <a:xfrm>
              <a:off x="3437640" y="2133720"/>
              <a:ext cx="954000" cy="62460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9"/>
            <p:cNvSpPr/>
            <p:nvPr/>
          </p:nvSpPr>
          <p:spPr>
            <a:xfrm>
              <a:off x="4764240" y="4536720"/>
              <a:ext cx="1038960" cy="834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0"/>
            <p:cNvSpPr/>
            <p:nvPr/>
          </p:nvSpPr>
          <p:spPr>
            <a:xfrm>
              <a:off x="5344560" y="2552040"/>
              <a:ext cx="952560" cy="83124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1"/>
            <p:cNvSpPr/>
            <p:nvPr/>
          </p:nvSpPr>
          <p:spPr>
            <a:xfrm>
              <a:off x="3006720" y="3177360"/>
              <a:ext cx="172800" cy="8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006633"/>
                </a:solidFill>
                <a:latin typeface="Garamond"/>
              </a:rPr>
              <a:t>Barem de notare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1. Se acordă 2 punc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2. Se acordă 3 punc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3. Se acordă 4 punc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Se acordă 1 punct din ofici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Total : 10 punc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1:41:50Z</dcterms:created>
  <dc:creator>SPORTIV</dc:creator>
  <dc:description/>
  <dc:language>en-US</dc:language>
  <cp:lastModifiedBy>Carmen</cp:lastModifiedBy>
  <dcterms:modified xsi:type="dcterms:W3CDTF">2011-03-24T08:55:21Z</dcterms:modified>
  <cp:revision>15</cp:revision>
  <dc:subject/>
  <dc:title>TEST  DE EVALUARE INIŢIALĂ</dc:title>
</cp:coreProperties>
</file>